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F4D-6444-41E9-820A-A30DB28B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BBF-C805-47E9-824A-ABADECD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3F4-13F1-4B3F-B6E1-E8987C73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DFB-195B-4332-9478-CD7A7A02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518-96E2-44B8-8740-468CF1A0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479-E061-4BF6-BA11-487FBFBB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32C-6611-4610-A428-01B0202B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220-C158-4FF5-B287-F034FE85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EA6-AE1B-4067-9199-3DDB6973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136-1831-4E3E-BFFA-B2F8EF5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301-6360-4181-9EDA-76C8EC3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52F-674F-4484-8A36-9B119EF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7CE-AC60-464F-BCC7-5F837CDD0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:  Revea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yMac, Phiggs, and Joey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1 Solving Equations Using Addition and 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+ 6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– 6 = -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you must subtract 6 to both side. That will let you cross out 6 and make the 10 a 4. So X =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1 solving equations using addition and 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4 = 54 –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4 – 54 = 54 – t –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8 = -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 =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you do -4 – 54 = 54 – t – 54. then you get – 58 = -t. so you get 58 = 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ving Equations Using Multiplication and Divi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ving Equations Using Multiplication and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4x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4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4 = 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-1/4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8:53:17Z</dcterms:created>
  <dc:creator>Student</dc:creator>
  <dc:description/>
  <dc:language>en-US</dc:language>
  <cp:lastModifiedBy>Student</cp:lastModifiedBy>
  <dcterms:modified xsi:type="dcterms:W3CDTF">2009-12-09T20:17:59Z</dcterms:modified>
  <cp:revision>6</cp:revision>
  <dc:subject/>
  <dc:title>Chapter 3:  Revealed</dc:title>
</cp:coreProperties>
</file>